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BF0-05E3-4750-A436-8F6509BF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AC1-606E-4BC0-9FED-4436313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6ED-92FF-4E9F-8AEE-722A0346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10C-D8C0-4653-BF13-A6ED6B42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37A-D6ED-4EE4-9D1F-24197A2C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6E3-DB06-4450-9A26-13867AE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012-4DBD-4152-B1FA-C3255BD7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81A3-EB80-4CFC-A261-8F8CF798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E4E-00E9-44A7-B622-801E307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FCE2-DA23-4D45-96BF-5AF1C8B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5A09-0F6E-4B97-B684-E1A4B38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9D9-1276-42CB-A979-B268DB70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C81A-EB1C-4018-B4C0-3E74A14D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A699-7F43-4F2B-958B-0DFDB1F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1C4C-704D-4565-AD80-41087CCA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9993-A129-43B3-A0E8-7F6AF5BD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BF79-BFF9-4E60-A307-6E209609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DD88-668D-493E-A15A-4372459B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C3A2-D90D-45D2-850D-C8F6F1C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E5A5-CC5E-4864-A5F4-266DAB29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901E-34F7-4EB8-A22D-66505A01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DAC5F-3773-4818-B811-2680C6A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EC7-7B1F-4AF2-A6F2-7244A433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29FC-B4D3-4BF1-9AE3-19D9C9B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2206-9E18-4D17-8156-2FAC22F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82CC-7FF9-4183-BF35-D4B437AD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D44B-B57D-4E8A-94B4-92333A0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BD7F-4CAF-4C40-A45F-213536C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5956-5D6B-4D65-BE84-1C583B8F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44BA-3955-496B-A69E-89237AA9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A523-58E5-4803-99A5-60688255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DE8F-2FF7-476A-B0CE-1C05D8E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A1AE-FEC7-43C5-8BE0-01F173B7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E72-9D9C-493D-A899-08C1F44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8ED5-71C9-4CE3-BE86-0489187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EAE5-364D-479A-9FE4-1B70996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DE61-A77B-4BA9-91DB-F84EB14F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4BF8-4101-4B5B-9C72-5DC6699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2438-576C-43AC-AB66-E184BDE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D813-BB4F-4516-B59E-1F6AC8B0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02176-BB61-4BAF-978D-FF1F92D4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DD32-33DE-49C9-B507-A79D73AE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C1677-4429-4BAC-9C9A-A89C80B4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C2A9-F2A6-4B12-9501-C8CF73F2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F31-EDD2-46F8-BB9D-05B174DE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41B6-8AC6-4612-9A6C-7B085C7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EC069-8292-4C82-85FF-211FBB1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F26D-6F6C-496D-A417-BAB2850D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0F1B2-4697-4705-A66F-BB9A85C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5D17-29FD-402C-A99A-E38F4C8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471E-639E-44B4-91D5-7E58692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D37A-E9D8-4AAC-BDF6-4808BD2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4DD32-49C4-402B-900D-94F33C9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8F66-918E-4594-8217-2DC07E7F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10AB-014C-4865-A36F-DE088570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F7A-D0D5-41B3-A251-FD72A8EF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AC82-BE64-4A7B-A314-EEF77A2D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CF1-2F45-41B1-84B1-34806FAA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B37-679A-4E00-BC56-CEAE1EA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67D-27A6-47B2-AB47-2617AA2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авоъгъл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авоъгъл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6967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148-81FF-493A-AD72-ED9AC94AEDCB}" type="slidenum">
              <a:rPr b="0" lang="bg-BG" sz="1100" spc="-1" strike="noStrike">
                <a:solidFill>
                  <a:srgbClr val="69676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авоъгъл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авоъгъл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аво съединение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5D7-B963-4BF9-8B79-2401693D9EAB}" type="slidenum">
              <a:rPr b="0" lang="bg-BG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авоъгъл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авоъгъл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6967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D0D-ABC7-4A8D-8FF5-361DBCEF411F}" type="slidenum">
              <a:rPr b="0" lang="bg-BG" sz="1100" spc="-1" strike="noStrike">
                <a:solidFill>
                  <a:srgbClr val="69676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авоъгъл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авоъгъл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9c2d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c9c2d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112-2D1C-4CA4-BCE0-9948F243B499}" type="slidenum">
              <a:rPr b="0" lang="bg-BG" sz="1100" spc="-1" strike="noStrike">
                <a:solidFill>
                  <a:srgbClr val="c9c2d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авоъгъл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авоъгъл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58880" indent="-228600">
              <a:spcBef>
                <a:spcPts val="601"/>
              </a:spcBef>
              <a:buClr>
                <a:srgbClr val="6585c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04760" indent="-228600">
              <a:spcBef>
                <a:spcPts val="601"/>
              </a:spcBef>
              <a:buClr>
                <a:srgbClr val="6585c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228600">
              <a:spcBef>
                <a:spcPts val="601"/>
              </a:spcBef>
              <a:buClr>
                <a:srgbClr val="6585c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100" spc="-1" strike="noStrike">
                <a:solidFill>
                  <a:srgbClr val="6967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2D6-36BE-4E39-AECC-EFE7285716C9}" type="slidenum">
              <a:rPr b="0" lang="bg-BG" sz="1100" spc="-1" strike="noStrike">
                <a:solidFill>
                  <a:srgbClr val="69676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6"/>
          <p:cNvSpPr txBox="1"/>
          <p:nvPr/>
        </p:nvSpPr>
        <p:spPr>
          <a:xfrm>
            <a:off x="108000" y="765000"/>
            <a:ext cx="7993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СНОВНО УЧИЛИЩ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 ХРИСТО БОТЕВ"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. БУРГАС, кв. ВЕТРЕ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bg-BG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4" descr="DSC02220"/>
          <p:cNvPicPr/>
          <p:nvPr/>
        </p:nvPicPr>
        <p:blipFill>
          <a:blip r:embed="rId1"/>
          <a:stretch/>
        </p:blipFill>
        <p:spPr>
          <a:xfrm>
            <a:off x="250920" y="0"/>
            <a:ext cx="885816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5"/>
          <p:cNvSpPr txBox="1"/>
          <p:nvPr/>
        </p:nvSpPr>
        <p:spPr>
          <a:xfrm rot="217200">
            <a:off x="1042920" y="774720"/>
            <a:ext cx="7997760" cy="50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410082"/>
                  </a:solidFill>
                  <a:miter/>
                </a:ln>
                <a:solidFill>
                  <a:srgbClr val="93296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СТАВЯНЕ </a:t>
            </a:r>
            <a:endParaRPr b="0" lang="en-US" sz="2400" spc="1" strike="noStrike">
              <a:ln w="19080">
                <a:solidFill>
                  <a:srgbClr val="410082"/>
                </a:solidFill>
                <a:miter/>
              </a:ln>
              <a:solidFill>
                <a:srgbClr val="93296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410082"/>
                  </a:solidFill>
                  <a:miter/>
                </a:ln>
                <a:solidFill>
                  <a:srgbClr val="93296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</a:t>
            </a:r>
            <a:endParaRPr b="0" lang="en-US" sz="2400" spc="1" strike="noStrike">
              <a:ln w="19080">
                <a:solidFill>
                  <a:srgbClr val="410082"/>
                </a:solidFill>
                <a:miter/>
              </a:ln>
              <a:solidFill>
                <a:srgbClr val="93296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410082"/>
                  </a:solidFill>
                  <a:miter/>
                </a:ln>
                <a:solidFill>
                  <a:srgbClr val="93296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 </a:t>
            </a:r>
            <a:endParaRPr b="0" lang="en-US" sz="2400" spc="1" strike="noStrike">
              <a:ln w="19080">
                <a:solidFill>
                  <a:srgbClr val="410082"/>
                </a:solidFill>
                <a:miter/>
              </a:ln>
              <a:solidFill>
                <a:srgbClr val="93296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410082"/>
                  </a:solidFill>
                  <a:miter/>
                </a:ln>
                <a:solidFill>
                  <a:srgbClr val="93296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20г. </a:t>
            </a:r>
            <a:endParaRPr b="0" lang="en-US" sz="2400" spc="1" strike="noStrike">
              <a:ln w="19080">
                <a:solidFill>
                  <a:srgbClr val="410082"/>
                </a:solidFill>
                <a:miter/>
              </a:ln>
              <a:solidFill>
                <a:srgbClr val="93296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Картина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лавие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438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 rot="21221400">
            <a:off x="468000" y="1773000"/>
            <a:ext cx="72388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1. Закон за държавния бюджет на република Българ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2. Закон за публични финанс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3. Писмо на МФ-ФО-1/16.1.2020г. за съставяне на бюджета на община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4. ПМС №381/30.12.2019г. за изпълнението на държавния бюдж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6986520" cy="1139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68360" y="1844640"/>
            <a:ext cx="7416720" cy="2664000"/>
          </a:xfrm>
          <a:prstGeom prst="rect">
            <a:avLst/>
          </a:prstGeom>
          <a:solidFill>
            <a:srgbClr val="d7dfc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о утвърдена формула  - 534 028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Издръжка                      -       253 л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Преходен остатък          -    7 999 л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Общо                            - 542 280 л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65786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2276280"/>
            <a:ext cx="5770440" cy="1223640"/>
          </a:xfrm>
          <a:prstGeom prst="rect">
            <a:avLst/>
          </a:prstGeom>
          <a:solidFill>
            <a:srgbClr val="ede4f1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Verdana"/>
              </a:rPr>
              <a:t>Дофинансиране – 2 795 л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971280" y="1700280"/>
            <a:ext cx="5832360" cy="1800000"/>
          </a:xfrm>
          <a:prstGeom prst="rect">
            <a:avLst/>
          </a:prstGeom>
          <a:solidFill>
            <a:srgbClr val="f5f1e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253d75"/>
                </a:solidFill>
                <a:latin typeface="Verdana"/>
              </a:rPr>
              <a:t>Очаквана рента за ползване на училищни земи от кооперация “ Златен клас” –за 2020г. – 800л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4248000" cy="1871640"/>
          </a:xfrm>
          <a:prstGeom prst="rect">
            <a:avLst/>
          </a:prstGeom>
          <a:solidFill>
            <a:srgbClr val="d7dfc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10082"/>
                </a:solidFill>
                <a:latin typeface="Verdana"/>
              </a:rPr>
              <a:t>2020г</a:t>
            </a:r>
            <a:r>
              <a:rPr b="0" lang="bg-BG" sz="2800" spc="-1" strike="noStrike">
                <a:solidFill>
                  <a:srgbClr val="410082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410082"/>
                </a:solidFill>
                <a:latin typeface="Verdana"/>
              </a:rPr>
              <a:t>545 875 лв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11"/>
          <p:cNvSpPr txBox="1"/>
          <p:nvPr/>
        </p:nvSpPr>
        <p:spPr>
          <a:xfrm>
            <a:off x="324000" y="333360"/>
            <a:ext cx="763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ЕЛЕГИРАН  БЮДЖЕ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7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7285320" cy="2890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39280" y="3184560"/>
            <a:ext cx="7417080" cy="3168720"/>
          </a:xfrm>
          <a:prstGeom prst="rect">
            <a:avLst/>
          </a:prstGeom>
          <a:solidFill>
            <a:srgbClr val="d7dfce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10082"/>
                </a:solidFill>
                <a:latin typeface="Verdana"/>
              </a:rPr>
              <a:t>§ 01-00          - 368 999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10082"/>
                </a:solidFill>
                <a:latin typeface="Verdana"/>
              </a:rPr>
              <a:t>§ 02-00          -   36 50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10082"/>
                </a:solidFill>
                <a:latin typeface="Verdana"/>
              </a:rPr>
              <a:t>§ 05-00          -   86 459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10082"/>
                </a:solidFill>
                <a:latin typeface="Verdana"/>
              </a:rPr>
              <a:t>Всичко           - 491 95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609480" y="401760"/>
            <a:ext cx="3456000" cy="652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9280" y="1341360"/>
            <a:ext cx="4969080" cy="4967280"/>
          </a:xfrm>
          <a:prstGeom prst="rect">
            <a:avLst/>
          </a:prstGeom>
          <a:solidFill>
            <a:srgbClr val="d7dfce"/>
          </a:solidFill>
          <a:ln w="9360">
            <a:solidFill>
              <a:srgbClr val="93296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100" spc="-1" strike="noStrike">
                <a:solidFill>
                  <a:srgbClr val="410082"/>
                </a:solidFill>
                <a:latin typeface="Verdana"/>
              </a:rPr>
              <a:t>2020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6967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11 храна                   7 6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13 облекло               </a:t>
            </a:r>
            <a:r>
              <a:rPr b="0" lang="en-US" sz="1600" spc="-1" strike="noStrike">
                <a:solidFill>
                  <a:srgbClr val="410082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2 5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14 учебниц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15 материали            3 5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16 вода, гориво, ел  20 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20 външни услуги</a:t>
            </a:r>
            <a:r>
              <a:rPr b="0" lang="en-US" sz="1600" spc="-1" strike="noStrike">
                <a:solidFill>
                  <a:srgbClr val="410082"/>
                </a:solidFill>
                <a:latin typeface="Verdana"/>
              </a:rPr>
              <a:t>   </a:t>
            </a: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   5 0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 -30 ремонт               10 69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51 командировки</a:t>
            </a:r>
            <a:r>
              <a:rPr b="0" lang="en-US" sz="1600" spc="-1" strike="noStrike">
                <a:solidFill>
                  <a:srgbClr val="410082"/>
                </a:solidFill>
                <a:latin typeface="Verdana"/>
              </a:rPr>
              <a:t>      </a:t>
            </a: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    56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§10-62 застраховки</a:t>
            </a:r>
            <a:r>
              <a:rPr b="0" lang="en-US" sz="1600" spc="-1" strike="noStrike">
                <a:solidFill>
                  <a:srgbClr val="410082"/>
                </a:solidFill>
                <a:latin typeface="Verdana"/>
              </a:rPr>
              <a:t>        </a:t>
            </a: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410082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410082"/>
                </a:solidFill>
                <a:latin typeface="Verdana"/>
              </a:rPr>
              <a:t> 3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533ea9"/>
                </a:solidFill>
                <a:latin typeface="Verdana"/>
              </a:rPr>
              <a:t>§19-00 данъци и такси         5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100" spc="-1" strike="noStrike">
                <a:solidFill>
                  <a:srgbClr val="410082"/>
                </a:solidFill>
                <a:latin typeface="Verdana"/>
              </a:rPr>
              <a:t>Всичко – 55</a:t>
            </a:r>
            <a:r>
              <a:rPr b="0" lang="en-US" sz="3100" spc="-1" strike="noStrike">
                <a:solidFill>
                  <a:srgbClr val="410082"/>
                </a:solidFill>
                <a:latin typeface="Verdana"/>
              </a:rPr>
              <a:t> </a:t>
            </a:r>
            <a:r>
              <a:rPr b="0" lang="bg-BG" sz="3100" spc="-1" strike="noStrike">
                <a:solidFill>
                  <a:srgbClr val="410082"/>
                </a:solidFill>
                <a:latin typeface="Verdana"/>
              </a:rPr>
              <a:t>764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7:17:29Z</dcterms:created>
  <dc:creator>*****</dc:creator>
  <dc:description/>
  <dc:language>en-US</dc:language>
  <cp:lastModifiedBy>User</cp:lastModifiedBy>
  <dcterms:modified xsi:type="dcterms:W3CDTF">2020-02-28T07:26:26Z</dcterms:modified>
  <cp:revision>91</cp:revision>
  <dc:subject/>
  <dc:title>Slide 1</dc:title>
</cp:coreProperties>
</file>